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9ECB-760A-4A03-BFE6-AFCA63A4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92D1-A66A-4044-84E8-FF7A77A4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36A3-6445-445B-96B5-6669EE5A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daviddarling.info/images/hypothalamu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32B7-BF71-40B7-B79D-B9098EFB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hypogal.com/wp-content/uploads/2014/11/Pituitary-HG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9A6C-90B9-4F97-8DB1-D42B269E5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E12B-03B1-46EE-B28F-5E71891A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2D54-8C3C-4F46-BC57-F0EB35EF3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2.estrellamountain.edu/faculty/farabee/Biobk/pituitary_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; 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AA9-9595-4DEC-BE1C-C7A81B40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B91-D3ED-447C-89E5-A9CBA348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; http://www.uic.edu/classes/bios/bios100/lecturesf04am/adh01a,jp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3BD-11DA-43CD-8D09-801DC77E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D1C-8BFF-4A06-8C15-FDEB32599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aloewellnessdc.com/wp-content/uploads/2014/10/hormon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opentextbc.ca/biology/chapter/18-3-regulation-of-body-proces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BEAC-6504-42DB-B7F5-25BC2234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Renin–angiotensin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ABC9-10E9-44A6-8675-63A67E52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edical1stop.com/wp-content/uploads/Thyroid-Gland-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14C-D5BD-48F5-A43D-0DF9A8E4F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nap.edu/openbook/0309095689/xhtml/images/p2000c8bag4400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021E-8B51-4EF8-BCA1-8F79E8D8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7E5-1484-4239-AAFF-2E73EDAB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opentextbc.ca/anatomyandphysiology/chapter/17-4-the-thyroid-glan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ter image from: http://www.webmd.com/women/go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box image: http://poison-ivy-oak-sumac.com/fight-them/salt-vinegar-bleach-herbicid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29F-6924-43D4-8769-21C8D545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9E2B-1809-407E-A34B-8F8F1B24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lassconnection.s3.amazonaws.com/773/flashcards/681773/jpg/calcitonin131516931702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172-9E6E-48D4-BCE4-91F2F17FF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123rf.com/photo_44929454_stock-vector-calcitonin-and-parathormone-hormonal-regulation-of-blood-calcium-levels-regulation-of-calcium-leve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6FB-DCBB-4816-9130-83EA8CC19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f.ydcdn.net/1.0.1.44/images/main/adrenal%20gla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96BF-0C08-4BE0-AB44-B70EF6CE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DA6F-402E-46C1-9F71-7D38FB84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tmguide.org/hormonebasic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578C-374B-4DD5-A7FB-DBE8A602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0CCE-BAF4-4697-9682-5A613150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ourses.candelalearning.com/olianp/wp-content/uploads/sites/167/2014/11/E_M1_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DA3-90E4-477F-87BE-FD5DC3D82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1BB-E8BB-45BB-A887-0D6049E9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6DEF-42E6-4D5E-8B62-0082058C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3A9-3A2A-46C0-BF22-FCF9E6B1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1247-21CC-427C-A49F-78485F56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2D7-A156-4C82-B7A4-C670F445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CB6-1925-43B4-9C6F-9A3C55C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BF0-CF09-4548-AD4A-B3C10EDA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B01-D97E-4874-8285-90C625ED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436-7A89-4DAC-ADC9-6C9962DC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B52-430C-493A-9849-80069F86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303-DC91-46E2-AD4D-E1600845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E82-C74F-4188-941B-861B3974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105-9031-4C9D-9052-E1C7D33C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19D-1736-4493-A2CE-8C1BC65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6D2-67D0-40E7-A5B6-FC8FED4F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4A2-3C91-43C5-A7F8-C6A277B0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F545-A667-4E39-8310-D8F75DCA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gNwxF3aQp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: Chemical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5_06HumanEndocGlands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brain &amp;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released from neurons into the bloodstream to the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5" descr="hypothalamus.gif"/>
          <p:cNvPicPr/>
          <p:nvPr/>
        </p:nvPicPr>
        <p:blipFill>
          <a:blip r:embed="rId1"/>
          <a:srcRect l="0" t="-9541" r="0" b="-954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l vein connects capillaries in hypothalamus to those in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ing hormones &amp; inhibiting hormones act on the anterior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4" descr="Pituitary-HG.jpeg"/>
          <p:cNvPicPr/>
          <p:nvPr/>
        </p:nvPicPr>
        <p:blipFill>
          <a:blip r:embed="rId1"/>
          <a:srcRect l="0" t="-11787" r="0" b="-117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&amp; stores many hormones (prolactin, growth hormone, TSH, FSH, LH, ACTH, MSH, endorphin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painkille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are tropic hormones (they act on other endocrine g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2" descr="figure_06_04_labeled.jpg"/>
          <p:cNvPicPr/>
          <p:nvPr/>
        </p:nvPicPr>
        <p:blipFill>
          <a:blip r:embed="rId1"/>
          <a:srcRect l="0" t="4786" r="0" b="478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and releases 2 hormones produced by the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 &amp; 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2" descr="pituitary_2.gif"/>
          <p:cNvPicPr/>
          <p:nvPr/>
        </p:nvPicPr>
        <p:blipFill>
          <a:blip r:embed="rId1"/>
          <a:srcRect l="0" t="-16694" r="0" b="-16694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6a01053603aa25970c010536c8ba2c970c-500wi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iological rhythms due to secretion of mela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atonin regulates biorhythms (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loc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(detected by the eye) inhibits melatoni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on kidneys to reabsorb more water in the distal tubule &amp;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inhibited by caffeine, alcohol; stimulated by nicotine, st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4" descr="adh01a,jpg.jpg"/>
          <p:cNvPicPr/>
          <p:nvPr/>
        </p:nvPicPr>
        <p:blipFill>
          <a:blip r:embed="rId1"/>
          <a:srcRect l="13220" t="0" r="1322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cells in one part of the body that regulate processes in another part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2" descr="hormones.jpg"/>
          <p:cNvPicPr/>
          <p:nvPr/>
        </p:nvPicPr>
        <p:blipFill>
          <a:blip r:embed="rId1"/>
          <a:srcRect l="0" t="-20578" r="0" b="-20578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Regulatory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5" descr="Figure_37_03_01-1024x554.jpg"/>
          <p:cNvPicPr/>
          <p:nvPr/>
        </p:nvPicPr>
        <p:blipFill>
          <a:blip r:embed="rId1"/>
          <a:srcRect l="0" t="-1255" r="0" b="-1255"/>
          <a:stretch/>
        </p:blipFill>
        <p:spPr>
          <a:xfrm>
            <a:off x="324000" y="1700280"/>
            <a:ext cx="856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6" descr="700px-Renin-angiotensin-aldosterone_system.png"/>
          <p:cNvPicPr/>
          <p:nvPr/>
        </p:nvPicPr>
        <p:blipFill>
          <a:blip r:embed="rId1"/>
          <a:srcRect l="0" t="-13769" r="0" b="-13769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hormones important for growth, development, metabolism in all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Thyroid-Gland-Location.jpg"/>
          <p:cNvPicPr/>
          <p:nvPr/>
        </p:nvPicPr>
        <p:blipFill>
          <a:blip r:embed="rId1"/>
          <a:srcRect l="4167" t="0" r="416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H stimulates pituitary to release TSH, which causes thyroid to releas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cts on most cells to increase metabolic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4" descr="p2000c8bag44001.jpg"/>
          <p:cNvPicPr/>
          <p:nvPr/>
        </p:nvPicPr>
        <p:blipFill>
          <a:blip r:embed="rId1"/>
          <a:srcRect l="-20066" t="0" r="-2006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2" descr="1813_A_Classic_Negative_Feedback_Loop.jpg"/>
          <p:cNvPicPr/>
          <p:nvPr/>
        </p:nvPicPr>
        <p:blipFill>
          <a:blip r:embed="rId1"/>
          <a:srcRect l="-14985" t="0" r="-14985" b="0"/>
          <a:stretch/>
        </p:blipFill>
        <p:spPr>
          <a:xfrm>
            <a:off x="684360" y="549360"/>
            <a:ext cx="78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deficiency leads to inability to produc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loop causes over-stimulation of thy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6" descr="h9991416_001.jpg"/>
          <p:cNvPicPr/>
          <p:nvPr/>
        </p:nvPicPr>
        <p:blipFill>
          <a:blip r:embed="rId1"/>
          <a:srcRect l="19809" t="0" r="1980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TableSalt.png"/>
          <p:cNvPicPr/>
          <p:nvPr/>
        </p:nvPicPr>
        <p:blipFill>
          <a:blip r:embed="rId2"/>
          <a:stretch/>
        </p:blipFill>
        <p:spPr>
          <a:xfrm>
            <a:off x="2050920" y="4765680"/>
            <a:ext cx="2049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Calc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ton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creted by thyroid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s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in blood by stimulating deposition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reducing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tak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idne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all intes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2" descr="calcitonin1315169317026.jpg"/>
          <p:cNvPicPr/>
          <p:nvPr/>
        </p:nvPicPr>
        <p:blipFill>
          <a:blip r:embed="rId1"/>
          <a:srcRect l="0" t="-12637" r="0" b="-1263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thyr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m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TH) when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l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rease reabsorption &amp; to activate vitamin D  (causing cell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mall intes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r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sor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2" descr="image019.jpg"/>
          <p:cNvPicPr/>
          <p:nvPr/>
        </p:nvPicPr>
        <p:blipFill>
          <a:blip r:embed="rId1"/>
          <a:srcRect l="-27641" t="0" r="-2764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6" descr="44929454-calcitonin-and-parathormone-Hormonal-regulation-of-blood-calcium-levels-Regulation-of-calcium-levels-Stock-Vector.jpg"/>
          <p:cNvPicPr/>
          <p:nvPr/>
        </p:nvPicPr>
        <p:blipFill>
          <a:blip r:embed="rId1"/>
          <a:srcRect l="-48165" t="0" r="-48165" b="0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neurohormones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renaline)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radrenaline) in your body’s stress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5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eceptors"/>
          <p:cNvPicPr/>
          <p:nvPr/>
        </p:nvPicPr>
        <p:blipFill>
          <a:blip r:embed="rId1"/>
          <a:stretch/>
        </p:blipFill>
        <p:spPr>
          <a:xfrm>
            <a:off x="685800" y="2638440"/>
            <a:ext cx="7772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hormone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moregulation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lood glucose reg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ontent Placeholder 2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cr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secrete hormones directly into the blood or E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ands (sweat, salivary glands) secrete into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E_M1_7.jpg"/>
          <p:cNvPicPr/>
          <p:nvPr/>
        </p:nvPicPr>
        <p:blipFill>
          <a:blip r:embed="rId1"/>
          <a:srcRect l="0" t="-2366" r="0" b="-236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soluble in blood when combined with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rotein-hormones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steroid-hormone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ypes of hormones &amp; how they interact with their target cell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TgNwxF3aQ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7-05-03T13:37:40Z</dcterms:modified>
  <cp:revision>216</cp:revision>
  <dc:subject/>
  <dc:title>Importance of the Endocrine System</dc:title>
</cp:coreProperties>
</file>